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87D-9615-48A9-99E0-10847B68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5E7-0301-44FC-A703-1D9BF95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EB9-004C-43A5-955E-C8F2B37E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BB8-6576-4452-A21A-50903E39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1FF-47AB-4FA5-8801-64EA0E65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4CE-B5E4-4874-89E3-A79BAB0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E97-4313-4167-B361-34083EC3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E16-8A0F-4114-BCC7-36BA88CE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8AA-9283-4E49-9459-2EDAF7C5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A83-051B-4693-9154-9763320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6BD-D985-4D86-B4A6-15537C54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69E-9BE6-4490-992B-4FF8EBD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4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4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4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45E1-89B5-43D7-95CB-EFDBD83EC97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781360" cy="75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ies of Practice and Professional Work Based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Sue First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Trish Houghton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Ann Winter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kering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Transl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Alignment of perspective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Mobilises atten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Addresses conflicting interest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Link communities of practice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Practice development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Enabling opening of the black box of tacit knowledge through drawing attention to how things are done and noticing and articulating what is not said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kering en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1:1conversations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Visiting a practice – immersion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Meetings – delegations of communities exchange e.g. Champions meetings, PCT Workforce/Steering groups, Mentor/Assessor preparation workshops, Team meetings – Collective brokering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kering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Membership/Non membership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Multimembership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Fuzzy Set - neither IN or OUT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Invisible work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Exciting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Challenging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Best of both world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Value is often not recognised (FISH CAN’T SEE WATER)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to 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nnection of expertise and professional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Rapid information exchange/advice across/between communit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Analysis and diagnosis of needs and issu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-participation in curriculum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Strengthening and improving quality assurance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Ongoing market opportunit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reate shared tools, standards, documents etc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reative decision making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Reliable/positive communication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Effective responses to difficult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Mutual trust and respect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f Knowled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Shared history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Shared evolving language of co-participation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Shared ways of doing things together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ntinuing mutual relationship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ntinuing Advanced Practitioner Community of Practice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ntinued synthesis of shared meaning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19840" y="2840040"/>
            <a:ext cx="329400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90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New Postgraduate masters programme in Health &amp; Social Care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Tender (June 2004) to  first student intake 7 months (January 2005)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Currently 70 active students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Work based learning commissioned by  NWSHA in partnership with University of Salford, Primary Care Trusts and Ambulance Trust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Purpose is to prepare a workforce for the NHS &amp; Social Care Changing the Workforce programme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Competency based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Roles are 80% clinically focussed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Constant change e.g. SHA and PCT mergers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294395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2878200" cy="3944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Practitio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The MSc Advanced Practice programme facilitates the expert development of advanced knowledge and skills in experienced non-medical registered professionals so that in clearly defined circumstances they can provide services hitherto supplied by doctor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mmunity matron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Run clinics which enhance/replace GP/Consultant servic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Triage patients – prevent need to see GP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Examine, diagnose and treat patients with minor injur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 bas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Looking to expert practitioners/organisations to share knowledge and expertise and to engage with us in the development of the new Advanced Practitioner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38120" y="3221280"/>
            <a:ext cx="3608640" cy="2860560"/>
            <a:chOff x="3138120" y="3221280"/>
            <a:chExt cx="3608640" cy="2860560"/>
          </a:xfrm>
        </p:grpSpPr>
        <p:sp>
          <p:nvSpPr>
            <p:cNvPr id="53" name="_s13332"/>
            <p:cNvSpPr/>
            <p:nvPr/>
          </p:nvSpPr>
          <p:spPr>
            <a:xfrm>
              <a:off x="4487040" y="3627360"/>
              <a:ext cx="910440" cy="11631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3325"/>
            <p:cNvSpPr/>
            <p:nvPr/>
          </p:nvSpPr>
          <p:spPr>
            <a:xfrm>
              <a:off x="4487040" y="3221280"/>
              <a:ext cx="910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ared reperto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31"/>
            <p:cNvSpPr/>
            <p:nvPr/>
          </p:nvSpPr>
          <p:spPr>
            <a:xfrm>
              <a:off x="4833360" y="4069800"/>
              <a:ext cx="910800" cy="1163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3323"/>
            <p:cNvSpPr/>
            <p:nvPr/>
          </p:nvSpPr>
          <p:spPr>
            <a:xfrm>
              <a:off x="5835960" y="4508280"/>
              <a:ext cx="910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int enterpr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30"/>
            <p:cNvSpPr/>
            <p:nvPr/>
          </p:nvSpPr>
          <p:spPr>
            <a:xfrm>
              <a:off x="4487040" y="4512600"/>
              <a:ext cx="910440" cy="11631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3321"/>
            <p:cNvSpPr/>
            <p:nvPr/>
          </p:nvSpPr>
          <p:spPr>
            <a:xfrm>
              <a:off x="4487040" y="5792400"/>
              <a:ext cx="910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tual eng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29"/>
            <p:cNvSpPr/>
            <p:nvPr/>
          </p:nvSpPr>
          <p:spPr>
            <a:xfrm>
              <a:off x="4140360" y="4069800"/>
              <a:ext cx="910800" cy="11635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3320"/>
            <p:cNvSpPr/>
            <p:nvPr/>
          </p:nvSpPr>
          <p:spPr>
            <a:xfrm>
              <a:off x="3138120" y="4508280"/>
              <a:ext cx="910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anced Practitio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ies of Pract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Groups of people who share concerns, passions and a sustained pursuit of shared enterprise, expertise and knowledge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395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4395"/>
                </a:solidFill>
                <a:latin typeface="Arial"/>
              </a:rPr>
              <a:t>Wenger E (1998) Communities of Practice. Learning, Meaning and Identity. Cambridge University Press</a:t>
            </a:r>
            <a:endParaRPr b="0" lang="en-US" sz="1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Interdependent community  who have been brought together in a collective manner to make sense of  being an Advanced Practitioner and to do the job of providing a learning curriculum supported by work based learning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ellations of C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Discipline specific – GP’s, hospital doctors, nurses, midwives, health visitors, physiotherapists, podiatrists etc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Primary Care Trusts x9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Health Centr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NWSHA- Workforce &amp; Modernisation, Champion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University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Programme team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Trainee Advanced Practitioner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508360" y="1599840"/>
            <a:ext cx="28796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240000" cy="38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spot a C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Interest in developing tools, documents, use of language indicative of learning organis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Participation (varying levels) in the development of advancing knowledge and experience of being an Advanced Practitioner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Interpersonal engagement with us ie course committee membership, championing role within organisation, collegiate and positive manner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Negotiating practice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kering Work Bas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The University community includes 3 Learning Facilitators whose major role is to broker work based learning opportunities: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- in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- between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- across communit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282888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k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Making new connections across/between communitie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Open new possibilities of meaning of Advanced Practitioner role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Facilitate access/activitie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Legitimising participation of Trainee Advanced Practitioner in Community of Practice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Facilitate interpret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Enable co-ordin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16:24:50Z</dcterms:created>
  <dc:creator>mum</dc:creator>
  <dc:description/>
  <dc:language>en-US</dc:language>
  <cp:lastModifiedBy>mum</cp:lastModifiedBy>
  <dcterms:modified xsi:type="dcterms:W3CDTF">2006-07-03T20:57:57Z</dcterms:modified>
  <cp:revision>14</cp:revision>
  <dc:subject/>
  <dc:title>Slide 1</dc:title>
</cp:coreProperties>
</file>